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49F-A9ED-4946-9B32-2AAD7049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F7D-2EA9-46B2-8B53-96623A5B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9A0-C3D2-481C-8619-240CB2F3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8B4-1100-4BC2-A478-B72B105F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16A9-BB7E-490F-B404-D8B2FAA7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0F9-4A1F-4E02-BC7A-95CAFAE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E195-00D8-4263-95BE-6A0781DF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CEF8-11B1-47E5-A30B-9A9BBD79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9426-5361-47F3-A8FD-771A411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39EF-D0BA-474B-BE8A-2D358A76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3C0-2B42-4B49-8B95-420DE14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AFD-EFA4-4E0E-845F-9E48ADB5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006-D2E5-450D-A810-C7479EF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E785-45A0-4FD1-AD94-B497466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FE9-86D5-4C04-AE4E-341110D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573A-AFF7-47FC-81BA-B8DDF590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6ED-99CA-49D2-B500-45FAFA0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57B-3DED-44AB-A090-50EA367C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AF5-D522-4AD5-9E8E-DECDCE9E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DF8-A95C-4D46-A2A8-1F680E08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D16-F322-495C-8BE9-5B8DCFFE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42E-FB00-48E4-86DE-B898EB2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D18-D85E-4893-B095-CB28B05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CD5-F9FE-4E4E-A55F-6E9E71D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B8F-3998-4261-9E1E-A7423CABFB55}" type="slidenum"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391C-0BD4-4761-9EF8-44DA7FE995EE}" type="slidenum"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003366"/>
                </a:solidFill>
                <a:latin typeface="Tahoma"/>
              </a:rPr>
              <a:t>COSE DA F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SERVIZ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PERS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CasellaDiTesto 4"/>
          <p:cNvSpPr/>
          <p:nvPr/>
        </p:nvSpPr>
        <p:spPr>
          <a:xfrm>
            <a:off x="4832280" y="5516640"/>
            <a:ext cx="39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conoscimento e valorizzazion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lle competenz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er qualificare l’assistenza familiare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se da f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sa di partenariato fra Regione e   4 Provi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essa a punto degli strumenti idonei al contesto regiona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minari di promozione territoria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dividuazione di   punti di erogazione del servizio (CPI/PLUS /No profi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se da fare 2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efinizione di un accordo di servizio con i punti di erog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alendarizzazione e realizzazione  formazione operat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dividuazione e coinvolgimento ute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sting del servizio 25 ca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ttivazione del serviz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se da far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ttivazione del servizi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idazione  competenz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rmazione integrativ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onitoraggi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6:52:25Z</dcterms:created>
  <dc:creator>Licia</dc:creator>
  <dc:description/>
  <dc:language>en-US</dc:language>
  <cp:lastModifiedBy>Utente</cp:lastModifiedBy>
  <dcterms:modified xsi:type="dcterms:W3CDTF">2013-02-01T17:07:35Z</dcterms:modified>
  <cp:revision>23</cp:revision>
  <dc:subject/>
  <dc:title>IQEA NAVIGATOR  How to survive a Leonardo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